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59B-BBD5-406A-8D9C-7642785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7C6-9EDC-4B46-9F6B-821457A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2C2-0783-48F3-AC43-B39ABF19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DE3-710C-4F51-B5AB-E3B7AFF2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C1E-757A-4FAC-9EE2-42ECBA5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870-D378-4444-BC0B-A49CD011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74E-6BD1-43C0-81C6-09A644D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DEE-AB07-4079-91A2-1C4124CD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C27-827D-4CB8-840F-60240575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217-4CF0-42F7-9090-094B785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7BE-2DE2-4198-A402-E6ACCB8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E5E-6225-4D64-9E14-C4E1387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E703-E603-4873-B300-984E5FC93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in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2819520"/>
          <a:ext cx="7162920" cy="347328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880"/>
              </a:tblGrid>
              <a:tr h="524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 of Chemical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u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ombustion of a fuel with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, oil, or coal burning in a furn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f electricity to break a compound into elements or simpler compo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ing down water into hydrogen and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combination of a substance with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ting of an iron f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is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 combination of a bright metal with sulfur or another sub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ishing of br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ervation of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w of conservation of mass:  Matter is not created or destroyed in any chemical or physica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ergy:  is the ability to do work or caus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chemical and physical change in matter includes a change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perature and Thermal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mperature: is a measure of the average energy of random motion of particles of mat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mal energy:  is the total energy of all particles in an ob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and thermal energy are not the same thing, but are rel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mal Energy and Changes in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atter changes energy is either released or absorb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types of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rm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therm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othermic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dothermic change is when energy is taken in.  “endo” means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When ice melts it is taking in what type of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othermic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in matter when energy is released. “exo” mea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How does a car ru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a physical chang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a chemical chang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hanges in matter are related to changes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hys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hem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changes in matter related to change in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thermic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category of changes in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m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any change that alters the form or appearance of matter but does not make any substance in the matter into a different subst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*A substance that undergoes physical change is still the same substance after the change.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s of state:  Changes from solids, liquids, and ga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hanges from liquid to gas, but it is still w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s in shape or 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rea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thing else that changes shape or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change in matter that produce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one or more new substa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4:00:55Z</dcterms:created>
  <dc:creator>CHS</dc:creator>
  <dc:description/>
  <dc:language>en-US</dc:language>
  <cp:lastModifiedBy>CHS</cp:lastModifiedBy>
  <dcterms:modified xsi:type="dcterms:W3CDTF">2009-10-01T19:41:08Z</dcterms:modified>
  <cp:revision>3</cp:revision>
  <dc:subject/>
  <dc:title>Change in Matter</dc:title>
</cp:coreProperties>
</file>